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88EF-3564-4EAF-944B-48C1C67F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F32B-8718-4677-BD75-9C955CC8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66E2-7BA1-4896-8663-BEFA151B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5ADC-2C95-443E-9B11-8EE92DD7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251B-BE6E-4C9E-93E8-87A32E42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3765-E42D-429F-83D5-9145C8CD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A0BE-9919-42B6-BFC1-CA0579B9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6F3F-0604-4D78-BF24-EDEE8446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2570-9B44-4126-A2BF-3249986D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4F8B-8770-4937-99F7-96C48165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8475-52F5-4E8B-BB83-35C2F2EC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9F1E-7214-4AF6-8F1F-A3D5D276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BA04-0744-495F-BCE7-B9E779BE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A44E-5542-40E4-8E8E-E3472C9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9F22-58FB-471C-92E6-2F33D17F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5BF3-ED5F-47CF-82D7-A9311205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741D-FD11-45F7-84DB-32F1A1BA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1A3B-D6FB-49D4-A537-F7240CD0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B28C-F251-4DAC-9169-21B87615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06E8-F991-4DB3-89B2-6F50D202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EBEE-4CF3-48AC-8E43-F3C225CF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F944-7DF3-4D9A-8915-57C11BED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1B0F5-45D2-4E7F-9F74-F26604C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B2136-DDD7-47DB-8C6B-E5FDD0B2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0ACA-4803-4D9A-8242-35FEB51F8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1A13-7F41-4667-AFAE-26AFC7C3D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mple Shift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" y="177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000" y="1326960"/>
            <a:ext cx="7261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encipher/decipher using a simple shif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70200" y="2114640"/>
            <a:ext cx="5121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7680" y="23162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29163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imple Shi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under the Cipher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7960" y="3959280"/>
            <a:ext cx="3124440" cy="842760"/>
            <a:chOff x="237960" y="3959280"/>
            <a:chExt cx="3124440" cy="8427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37960" y="3959280"/>
              <a:ext cx="3124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81160" y="4416480"/>
              <a:ext cx="238320" cy="10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5640" y="49640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hif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" y="549756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n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40" y="4029120"/>
            <a:ext cx="542880" cy="295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30400" y="27637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57040" y="4506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nxnxfxfruq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53B7-6CC6-4277-8DD3-B4A3764981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4T22:44:56Z</dcterms:modified>
  <cp:revision>68</cp:revision>
  <dc:subject/>
  <dc:title>CAP Cryptographic Analysis Program</dc:title>
</cp:coreProperties>
</file>